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A82B-223A-4419-AE5A-E78108DF3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99F1-259E-4D6A-8795-2B2853D9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220C-6C35-43A2-8EC0-9847CF4A6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842C-B1C2-4B96-9C31-AAE9BFBF3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91AC-177E-442C-B96D-481816303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33E6-FA3E-47A6-9835-369D3311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1445-2EC2-48AB-B160-B2295D65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D98E-1A1D-468B-A82B-B3A7A62D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BD02-CFAF-4A4E-AEDB-02F317C3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E812-0837-4854-BEE4-3112CB90A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FDD3B-033B-413C-93D9-B599F44C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8794-33D9-4F4C-BFE7-B5D1B20C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5525-275E-4097-8BE4-33BD721F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FB5E-65C6-4693-B5DB-97428EB5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EF2A-401F-4AEB-B873-A374C79E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5CEFD-B7AA-4B25-95D7-C37F2B255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4757-A39F-4D70-9700-C28FB4B2D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8D4E-3530-43A6-88E6-A3F86977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23ED-BE40-40BF-8B92-B4A1682B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C348-11D9-41DE-9EB0-F05BBD756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CF39-9796-4489-8731-EB46BC37B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9112-836C-4B39-AE53-B2F2E593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F566-3455-4D86-AC33-9E12E31D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3936-7665-40A2-9C19-405D52CD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7b6cac"/>
                </a:gs>
                <a:gs pos="50000">
                  <a:srgbClr val="9280cc"/>
                </a:gs>
                <a:gs pos="100000">
                  <a:srgbClr val="7b6c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7254a"/>
                </a:gs>
                <a:gs pos="50000">
                  <a:srgbClr val="bd51a1"/>
                </a:gs>
                <a:gs pos="100000">
                  <a:srgbClr val="57254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824f99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10C9-4F50-422C-8E29-DD2F830329B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0000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7b6cac"/>
                </a:gs>
                <a:gs pos="50000">
                  <a:srgbClr val="9280cc"/>
                </a:gs>
                <a:gs pos="100000">
                  <a:srgbClr val="7b6ca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7254a"/>
                </a:gs>
                <a:gs pos="50000">
                  <a:srgbClr val="bd51a1"/>
                </a:gs>
                <a:gs pos="100000">
                  <a:srgbClr val="57254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824f99"/>
                </a:gs>
                <a:gs pos="50000">
                  <a:srgbClr val="cc66ff"/>
                </a:gs>
                <a:gs pos="100000">
                  <a:srgbClr val="824f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50000">
                  <a:srgbClr val="824f99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2e"/>
                </a:gs>
                <a:gs pos="100000">
                  <a:srgbClr val="00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4F03-9BC0-4ED0-8293-4807F78E40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4bc40"/>
                </a:solidFill>
                <a:latin typeface="Arial"/>
              </a:rPr>
              <a:t>Jurje Diana</a:t>
            </a:r>
            <a:r>
              <a:rPr b="0" lang="en-US" sz="4000" spc="-1" strike="noStrike">
                <a:solidFill>
                  <a:srgbClr val="f4bc40"/>
                </a:solidFill>
                <a:latin typeface="Arial"/>
              </a:rPr>
              <a:t>-Raluca</a:t>
            </a:r>
            <a:endParaRPr b="0" lang="en-US" sz="4000" spc="-1" strike="noStrike">
              <a:solidFill>
                <a:srgbClr val="f4bc4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7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Am 17 ani,sunt elevă la liceu teoretic “ION AGÂRBICEANU”,în clasa a 1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a </a:t>
            </a:r>
            <a:r>
              <a:rPr b="0" lang="ro-RO" sz="3200" spc="-1" strike="noStrike">
                <a:solidFill>
                  <a:srgbClr val="ffffff"/>
                </a:solidFill>
                <a:latin typeface="Arial"/>
              </a:rPr>
              <a:t>“D”. Îmi place foarte mult să pictez şi să câ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3T09:30:58Z</dcterms:created>
  <dc:creator> </dc:creator>
  <dc:description/>
  <dc:language>en-US</dc:language>
  <cp:lastModifiedBy> </cp:lastModifiedBy>
  <dcterms:modified xsi:type="dcterms:W3CDTF">2011-09-23T09:57:39Z</dcterms:modified>
  <cp:revision>3</cp:revision>
  <dc:subject/>
  <dc:title>Jurje Diana-Raluca</dc:title>
</cp:coreProperties>
</file>